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B44-2748-4020-95A4-524A1713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24D-B942-4C1B-85A1-B8B7B680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475F-D466-4B94-A020-07D3A213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71C-E2F4-4AFC-A25A-6882B263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2B2F-13F6-4461-9008-11457EDE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ADF6-CF0B-4FF4-9F2E-ED02D088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3AC-81B1-4291-B8C1-E3B387C2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215-4819-4325-B25E-774F03F2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41E-A159-4B3A-B34A-69F2FE1F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959-5FCE-4D7A-B0C9-8AC0351D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A25-FF47-46EA-A325-59A7E9DF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499-93D8-41B3-990E-5CD052B0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B0F6-5003-48FF-BB26-BE6C271448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Bivariate Data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Parallel Boxplo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Parallel Boxplot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Parallel boxplots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re made up of several regular boxplots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y are drawn up on a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common scale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so they can be easily compared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Parallel boxplots are used to display a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categorical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and a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numerical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variable. The categorical variable is NOT limited to 2 categories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Drawing boxplot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When drawing boxplots, you need to </a:t>
            </a:r>
            <a:r>
              <a:rPr b="1" lang="en-AU" sz="3000" spc="-1" strike="noStrike">
                <a:solidFill>
                  <a:srgbClr val="000000"/>
                </a:solidFill>
                <a:latin typeface="Cambria"/>
              </a:rPr>
              <a:t>show and label</a:t>
            </a: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Heading(s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Scale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Minimum and maximum value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Q1, median, Q3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Outliers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(Answers in the textbook will sometimes not show outliers. However, </a:t>
            </a:r>
            <a:r>
              <a:rPr b="1" lang="en-AU" sz="3000" spc="-1" strike="noStrike">
                <a:solidFill>
                  <a:srgbClr val="000000"/>
                </a:solidFill>
                <a:latin typeface="Cambria"/>
              </a:rPr>
              <a:t>you</a:t>
            </a: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 must </a:t>
            </a:r>
            <a:r>
              <a:rPr b="1" lang="en-AU" sz="3000" spc="-1" strike="noStrike">
                <a:solidFill>
                  <a:srgbClr val="000000"/>
                </a:solidFill>
                <a:latin typeface="Cambria"/>
              </a:rPr>
              <a:t>always</a:t>
            </a: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 show them.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Commenting and comparing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en you are asked to comment on the distributions or compare the distributions you need to talk about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Skew (if any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Range or spread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: Ex 2C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Questions  for you: Ex 2C, Q. 3 to 6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3:35:55Z</dcterms:created>
  <dc:creator>08843474</dc:creator>
  <dc:description/>
  <dc:language>en-US</dc:language>
  <cp:lastModifiedBy>08843474</cp:lastModifiedBy>
  <dcterms:modified xsi:type="dcterms:W3CDTF">2011-02-12T06:16:25Z</dcterms:modified>
  <cp:revision>8</cp:revision>
  <dc:subject/>
  <dc:title>Bivariate Data</dc:title>
</cp:coreProperties>
</file>